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7D8-F735-4FF3-90E6-322F8542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54A-618B-416D-A7AE-78136F62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64A-8A56-4F47-BABF-C1CCD4B4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475-24F3-41CE-8E9F-1ADBE9B3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7452-8220-41A7-90C1-D8FA95A9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424B-47BC-4B2F-B98E-8D154482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65B1-92DA-411C-938C-D1C72B6C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B224-E057-4231-BC2E-43405FF9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001F-E319-497A-BEDF-1037673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BA1F-A89E-4DBF-873C-3771A5F3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7AC7-1619-4711-A9A7-A3F38E8E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775-1A34-4AF1-8680-50A366D3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25E-2F84-4723-86F2-0012C19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3F60-5F81-4FF5-8695-84E4DAE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682F-B65A-4C53-9211-276BAC2D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AF58-AA62-4064-9BC1-2B16BB33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41BC-6620-477D-8A6A-8E27FDCE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2DA7-3F94-4CCC-95DC-43B8559C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E9F1-F315-414D-847B-144A2439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F6A8-260C-4649-AF82-A0C9DCE8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2EC7-3674-430D-906C-900EA584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FCBE-AEB2-4A82-8937-97A0529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9E3-F0A9-457D-BC81-6F738ECF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329A-C8FB-47DF-9013-99B307FA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9015-85D0-4C24-8394-D672BFAA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165A-25BA-4E89-AB42-845DD4E8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2CC0-C0FA-4104-82D4-D28E9D8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8D3C-C477-49EC-972D-454BA476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F2AB-D64F-4302-8C3A-77A88825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13C8-49D2-418E-A76F-8D81A22D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3F5C-F1B3-4C15-B800-695ADFDD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F648-64EA-43B6-BA32-DBBDC770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987B-5E24-4A9C-A687-B411C865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396-E6C3-4CCA-8E73-54327979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9357A-61AC-47DB-B86D-D6AB607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13F9-A792-4BEF-A96E-D231DA03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FEDE-04EE-460A-B306-39AAE223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1B5B-7655-4E97-A94D-E98E51B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6963-7EEB-4EF9-ACE7-E703F5A6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D697-3EB2-4025-A642-13007F1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AAB3-9EAD-444B-8EE4-7FAC737F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3901-2A63-4303-87CB-CC81C4D9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13C4-1488-47E6-A7C7-19207D41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D05-044F-4196-943C-E438DDDF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06C-FDB8-4309-A4A3-BFB4AE27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C4A-A30A-4F04-BF3E-69746123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DC1-6972-4B91-B4B1-D3372A64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851-6EC1-4752-B314-3F00E8C8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63A4-4EB6-466D-8524-83391EB1921A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323-827E-41F8-AB0D-EF1A85A0B466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D14-39BF-4F11-A422-A1ABFADFABC9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6EC8-145E-49F5-914B-BFFC406979DC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04960" y="835200"/>
            <a:ext cx="7826400" cy="445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7786800" cy="542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128520" y="755640"/>
            <a:ext cx="8564760" cy="526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28520" y="493560"/>
            <a:ext cx="9094680" cy="481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58000" cy="658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akak.ru/recipes/pictures/000/016/005_big.jpg"/>
          <p:cNvPicPr/>
          <p:nvPr/>
        </p:nvPicPr>
        <p:blipFill>
          <a:blip r:embed="rId1"/>
          <a:stretch/>
        </p:blipFill>
        <p:spPr>
          <a:xfrm>
            <a:off x="714240" y="571680"/>
            <a:ext cx="776304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7" descr="new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31399RO-1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131402RO-1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131399RO-1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131402RO-1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131399RO-1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131399RO-1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131399RO-1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131399RO-1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131402RO-1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"/>
          <p:cNvPicPr/>
          <p:nvPr/>
        </p:nvPicPr>
        <p:blipFill>
          <a:blip r:embed="rId1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14640" y="500040"/>
            <a:ext cx="3822480" cy="58644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2718000" y="571680"/>
            <a:ext cx="4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2860560" y="121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074760" y="1785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2860560" y="242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2575800" y="3071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071880" y="3643200"/>
            <a:ext cx="5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4" name="Прямоугольник 15"/>
          <p:cNvSpPr/>
          <p:nvPr/>
        </p:nvSpPr>
        <p:spPr>
          <a:xfrm>
            <a:off x="27176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6994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08080" y="-158760"/>
            <a:ext cx="8564400" cy="688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92160" y="1494000"/>
            <a:ext cx="86500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566640" y="4668840"/>
            <a:ext cx="8315280" cy="1268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http://festival.1september.ru/articles/527951/img2.jpg"/>
          <p:cNvPicPr/>
          <p:nvPr/>
        </p:nvPicPr>
        <p:blipFill>
          <a:blip r:embed="rId2"/>
          <a:stretch/>
        </p:blipFill>
        <p:spPr>
          <a:xfrm>
            <a:off x="1785960" y="114300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C:\Users\Android\Desktop\Scan2.jpg"/>
          <p:cNvPicPr/>
          <p:nvPr/>
        </p:nvPicPr>
        <p:blipFill>
          <a:blip r:embed="rId1"/>
          <a:stretch/>
        </p:blipFill>
        <p:spPr>
          <a:xfrm>
            <a:off x="231840" y="785880"/>
            <a:ext cx="4254480" cy="4857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Android\Desktop\Scan3.jpg"/>
          <p:cNvPicPr/>
          <p:nvPr/>
        </p:nvPicPr>
        <p:blipFill>
          <a:blip r:embed="rId2"/>
          <a:stretch/>
        </p:blipFill>
        <p:spPr>
          <a:xfrm>
            <a:off x="4572000" y="785880"/>
            <a:ext cx="42940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71424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ru-RU" sz="4800" spc="-1" strike="noStrike">
                <a:solidFill>
                  <a:srgbClr val="6aa62d"/>
                </a:solidFill>
                <a:latin typeface="Constantia"/>
              </a:rPr>
              <a:t>Й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вь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3079800" y="2286000"/>
            <a:ext cx="300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ьпан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3880" y="1397160"/>
          <a:ext cx="6096240" cy="3840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ч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щ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20840" y="1768320"/>
            <a:ext cx="8321400" cy="22370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432800" y="300024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2109"/>
                </a:solidFill>
                <a:latin typeface="Arial"/>
              </a:rPr>
              <a:t>В цветнике цветут цветы.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pic>
        <p:nvPicPr>
          <p:cNvPr id="204" name="Picture 2" descr="http://www.sadcvetov.ru/uploads/posts/2009-01/1231726369_cvetnik2.jpg"/>
          <p:cNvPicPr/>
          <p:nvPr/>
        </p:nvPicPr>
        <p:blipFill>
          <a:blip r:embed="rId2"/>
          <a:stretch/>
        </p:blipFill>
        <p:spPr>
          <a:xfrm>
            <a:off x="2714760" y="378612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-560520"/>
            <a:ext cx="8321760" cy="24130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3"/>
          <p:cNvSpPr/>
          <p:nvPr/>
        </p:nvSpPr>
        <p:spPr>
          <a:xfrm>
            <a:off x="2571840" y="164304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белой шапке стоит дед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сли дунеш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– шапки нет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64388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450720" y="-1865160"/>
            <a:ext cx="4840560" cy="34448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3"/>
          <p:cNvSpPr/>
          <p:nvPr/>
        </p:nvSpPr>
        <p:spPr>
          <a:xfrm>
            <a:off x="2286000" y="714240"/>
            <a:ext cx="50720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ойди по зелёному лугу, увидишь ты скромный цветок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Будь осторожен: он ядовит и очень жесток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58:00Z</dcterms:created>
  <dc:creator>ToHa</dc:creator>
  <dc:description/>
  <dc:language>en-US</dc:language>
  <cp:lastModifiedBy>Мама</cp:lastModifiedBy>
  <dcterms:modified xsi:type="dcterms:W3CDTF">2014-12-07T10:54:39Z</dcterms:modified>
  <cp:revision>54</cp:revision>
  <dc:subject/>
  <dc:title>Дифференциация У-Ю</dc:title>
</cp:coreProperties>
</file>